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A39B-020F-4BCC-A97C-9973DF6D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515C-270A-4441-ADF4-CAD796AA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522-AECA-4E96-B829-C694DF02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A32C-2F6E-4BD3-8B62-C924D9C7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06DE-5559-4283-86AE-CEF57635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F172-F819-4226-AD6A-69062A4E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4AFE-B420-4840-A8F9-D58BAB3B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2CC9-3CB7-4707-9A08-2B2CFFE2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D0D7-F10E-4BD0-9D3B-EFE464E8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1AD2-E11F-4E08-95F7-79825302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4225-9BBE-469A-A2FF-E5E58D88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F0F4-6795-4350-AB59-6B324DA9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A34C-3C0C-4394-8DFC-87B6FB93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9FEC-84A0-448B-971A-83777A5F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E96C-F4CC-4F73-B135-7E04F4EA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1BDB-F185-416C-81EB-C1804EC6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4B8E-2ADD-41E6-A789-7F97AEBB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E0919-3366-4280-A2BF-942195B8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98180-4484-4672-89D0-B97605E4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1E114-A04B-406B-ADF9-0E705B38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78B0B-08D2-4E36-9491-B339117C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45806-8DDD-48C2-86AF-271D4B83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CAA4-FDBE-40FB-BB28-CDE870B5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0FF46-01A4-41BA-A731-6222DF0D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D23D4-C8EE-4FC4-BA66-CFAED6D1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82666-B346-4B98-A96F-DF01255A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2382A-DE0D-48FF-82D5-E7DD192F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24BF7-178C-4F00-B141-D9CFD41A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6ECCF-111D-4101-891E-330689CB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45560-24FF-41EE-9E34-94E47842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DEA2B-C45B-4E4B-888F-B7C62EEE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58556-7567-47C2-8ECF-18087B17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B1AA6-A6DF-4D47-AD51-027B07D0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F0D4-A1B5-428E-9237-A4735C15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F4601-D57D-4E47-8254-ABB5EAFF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80907-504F-4843-84CE-755CB24D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0320D-A6AB-4059-ADB4-C8922042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F965C-01C2-42A4-80B1-CAE6D0BD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A9C33-226D-4415-A207-0176060A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4A057-397A-4E68-BD0B-7CF900F0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7976B-5886-4717-B7DD-CB5BC4DA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C91C0-4001-4131-AB12-ECC27390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AEA4F-FA27-4F0D-BCAF-D838E122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4A4F5-8CCA-477A-8C8D-41C9A71E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21B-392F-4FED-B02A-939F83F9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8BBC5-2210-452A-8ACC-B237E51E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5AF34-8CD3-4FD7-AAC7-CD229894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BA83C-7978-4FFA-9E2B-A8D9F1C4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8960E-0756-48E3-8D02-DED366C6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223DE-925E-4433-8A8B-314B937B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086A9-4021-49F7-9DAD-57A5B839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20750-3BF1-4DBF-BA37-51A4E2B9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E9784-92BD-46F3-A0D3-EA0717A0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FEB6D-2F84-4A6C-9BAB-8B99D256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9F0B8-4728-4B59-917A-C8F196AD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94E-FC92-4800-8E86-3B59F755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CB497-AF4D-466D-801C-F7A9A406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45E-487C-4592-A62F-EE77C468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182-7ECF-486B-91DC-005FF4E1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775-2189-493B-AD0D-9859CCFB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3DB9-45F6-4BE2-B563-6957A2B302A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0942-8A35-45E9-8563-419A3C04A95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0FA4-4C00-4DA6-9A8C-97AEA82A633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A953-9CE3-4004-BE02-CE0F036F3B7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25D2-D612-4AD9-8346-B740871E248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Современные технологии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876920" y="4114800"/>
            <a:ext cx="3962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В</a:t>
            </a:r>
            <a:r>
              <a:rPr b="0" lang="ru-RU" sz="2000" spc="-1" strike="noStrike">
                <a:solidFill>
                  <a:srgbClr val="424456"/>
                </a:solidFill>
                <a:latin typeface="Arial"/>
              </a:rPr>
              <a:t>ыполнили ученики 11 класса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. </a:t>
            </a:r>
            <a:r>
              <a:rPr b="0" lang="ru-RU" sz="2000" spc="-1" strike="noStrike">
                <a:solidFill>
                  <a:srgbClr val="424456"/>
                </a:solidFill>
                <a:latin typeface="Arial"/>
              </a:rPr>
              <a:t>Кудряшова Е, Волков А</a:t>
            </a:r>
            <a:r>
              <a:rPr b="0" lang="ru-RU" sz="2400" spc="-1" strike="noStrike">
                <a:solidFill>
                  <a:srgbClr val="424456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Учитель. Гуськова Н. И.</a:t>
            </a: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1066680" y="3049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ГБОУ СО «Школа – интернат АОП</a:t>
            </a:r>
            <a:r>
              <a:rPr b="0" i="1" lang="ru-RU" sz="1800" spc="-1" strike="noStrike">
                <a:solidFill>
                  <a:srgbClr val="00b0f0"/>
                </a:solidFill>
                <a:latin typeface="Arial"/>
              </a:rPr>
              <a:t> с.  Широкий  Буера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3733920" y="6019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7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деальный переводчик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Управление перспективных исследований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Министерства обороны США (DARPA) потратило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уйму времени и денег на создание идеального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ереводчика. Теперь Пентагон смотрит ещё дальше: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ему нужен робот, который способен понимать все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виды языков, а к тому же ещё и думать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амостоятельно. Да, C-3PO. По всей видимости,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ША планируют войну там, где говорят на совсем уж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экзотических языках…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На</a:t>
            </a:r>
            <a:r>
              <a:rPr b="1" lang="en-US" sz="1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роект</a:t>
            </a:r>
            <a:r>
              <a:rPr b="1" lang="en-US" sz="1000" spc="-1" strike="noStrike">
                <a:solidFill>
                  <a:srgbClr val="000000"/>
                </a:solidFill>
                <a:latin typeface="Georgia"/>
              </a:rPr>
              <a:t> BOLT (Broad Operational Language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orgia"/>
              </a:rPr>
              <a:t>Translation) </a:t>
            </a: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выделено</a:t>
            </a:r>
            <a:r>
              <a:rPr b="1" lang="en-US" sz="1000" spc="-1" strike="noStrike">
                <a:solidFill>
                  <a:srgbClr val="000000"/>
                </a:solidFill>
                <a:latin typeface="Georgia"/>
              </a:rPr>
              <a:t> $15 </a:t>
            </a: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млн</a:t>
            </a:r>
            <a:r>
              <a:rPr b="1" lang="en-US" sz="10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лово «робот»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употреблено не напрасно: машина должна уметь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использовать не только лингвистическую, но 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визуальную и тактильную информацию, чтобы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«автоматически рассуждать о языке». Датчики будут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пособны распознавать 250 объектов 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«последовательности из 100 действий для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выполнения сложных команд»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Устройство должно обеспечивать перевод разговора двух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человек (например, американца и жителя арабской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глубинки) на 90% на всех уровнях (текст или живая речь).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Кроме того, звёздно-полосатый C-3PO должен уметь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выполнять голосовые команды на других языках для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работы с электронной почтой и прочими приложениями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4" name="Picture 15" descr="Пентагон замыслил создать C-3PO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7735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4"/>
          <p:cNvSpPr/>
          <p:nvPr/>
        </p:nvSpPr>
        <p:spPr>
          <a:xfrm>
            <a:off x="6561000" y="28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елефо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отовый телефон, которому для работы не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требуется сотовая сеть - это единственный шанс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делать звонок или подключиться к сети Интернет в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тех местах, где полностью отсутствует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инфраструктура и не ловится сигнал сотовых вышек.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В Австралии разработали новую систему связ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Serval, позволяющуюмобильным телефонам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работать в таких условиях. Инновационная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технология была названа в честь сервала - большой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африканской кошки, которая благодаря своему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исключительно чуткому слуху может улавливать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ультразвуковые сигналы, издаваемые ее жертвами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рименяемая технология получила название Mesh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networking. Каждый аппарат при этом выполняет не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только абонентские функции, но и функци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ретранслятора-маршрутизатора. Телефоны,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одключенные к Serval, автоматически распознают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друг друга и замещают узлы в сети, когда один из них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отключается. При этом звонки осуществляются по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обычным номерам. Связь между узлам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оддерживается с использованием WiFi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8" name="Picture 7" descr="Создан сотовый телефон, которому не требуется сотовая сеть"/>
          <p:cNvPicPr/>
          <p:nvPr/>
        </p:nvPicPr>
        <p:blipFill>
          <a:blip r:embed="rId1"/>
          <a:stretch/>
        </p:blipFill>
        <p:spPr>
          <a:xfrm>
            <a:off x="5029200" y="1295280"/>
            <a:ext cx="3124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Эластичный экра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Группа исследователей, включающая специалистов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из Университета Осаки (Япония),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родемонстрировала оригинальный интерфейс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управления для сенсорных экранов. Обычно пр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двиге картинки на дисплее какая-то её часть уходит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из вида. Предложенная методика основана на идее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ридания изображению «эластичности». Работает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истема следующим образом: при перемещении,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кажем, карты на экране при помощи пальца часть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изображения «сжимается», оставаясь при этом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видимой, а не скрываясь за краями дисплея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Если пользователь убирает палец от сенсорной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анели, то трансформированная часть картинк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«разглаживается» и, как в случае с обычным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интерфейсами управления, исчезает из зоны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видимости. Если же пользователь понял, что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двинул изображение не в том направлении, он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может быстро вернуться к исходной позиции,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ередвинув палец обратно. Кроме того, надавив на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«сжатую» область, вы уменьшите масштаб таким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образом, чтобы можно было видеть одновременно 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изначальную, и новую позицию на карте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1" name="Picture 7" descr="Разработан «эластичный» интерфейс для сенсорных дисплеев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одводные лодки невидимые для гидроакустических приборов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Исследователи из Иллинойского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университета создали особое покрытие для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одводных лодок, которое позволит сделать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их полностью невидимыми для сонаров и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других гидроакустических приборов,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ботающих на ультразвуке. Как сообщает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DefPro, новое покрытие вместо того, чтобы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оглощать часть звуковых  волн, отклоняет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их, благодаря чему объект в воде становится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незаметным для сонаров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Ведущим проекта является профессор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механики и проектирования Николас Фэнг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(Nicholas Fang). Под его руководством в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университете был проведен опыт: инженеры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окрыли новым материалом металлический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цилиндр и опустили его в бассейн с водой. С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одной стороны бассейна был размещен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ультразвуковой излучатель, а с другой –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егистрирующее оборудование. В ходе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эксперимента, сенсоры не обнаружили в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бассейне никаких предметов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4" name="Picture 7" descr="Подводные лодки станут полностью невидимыми для сонаров "/>
          <p:cNvPicPr/>
          <p:nvPr/>
        </p:nvPicPr>
        <p:blipFill>
          <a:blip r:embed="rId1"/>
          <a:stretch/>
        </p:blipFill>
        <p:spPr>
          <a:xfrm>
            <a:off x="5181480" y="1981080"/>
            <a:ext cx="3353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ортативный музыкальный плее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Исследователи из NEC разработали весьма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необычную систему под названием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ArmKeypad, предназначенную для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управления портативным музыкальным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леером. Идея в том, чтобы позволить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ерематывать треки, изменять уровень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громкости и приостанавливать/запускать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воспроизведение путём похлопывания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ладонями — друг о друга, о предплечья или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лечи. Это позволит отказаться от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традиционных кнопок и сенсорных панелей,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ользоваться которыми иногда не совсем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удобно — скажем, во время пробежек или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занятий спортом.В основу системы положен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трёхосевой акселерометр. ArmKeypad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спознаёт, какой рукой и в каком месте хлопнул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о своему телу пользователь,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и отправляет полученные команды на плеер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осредством беспроводной связи Bluetooth.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Исследователи отмечают, что точность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спознавания во время бега достигает 96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роцентов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7" name="Picture 7" descr="NEC предлагает управлять аудиоплеером похлопываниями по телу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Цифровой фотоаппарат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Инженеры японской компании NEC вот уже почт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четыре года заглядывают в будущее цифровой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фотографии и заодно демонстрируют её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«послезавтрашний день» простым смертным, возя по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выставкам прототип 180-градусной панорамной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цифровой камеры NEC Dew (англ. «роса»). И,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разумеется, постоянно «шлифуя» его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очти доведённого до ума (хотелось бы верить)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изделие выглядит этаким дамским хайтек-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украшением: небольшая блестящая сфера-глаз с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ремешком для ношения на шее. Камера снимает всё,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что отражается от её поверхности; разработчик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осчитали, что поэтому NEC Dew уместнее всего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равнить с каплей воды, которая тоже представляет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обой миниатюрное панорамное зеркало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Но эстетический аспект здесь не очень-то и важен.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Суть в другом. NEC Dew способна распознавать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эмоции людей и даже прислушиваться к их речи: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камера фиксирует жесты и умеет оценивать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эмоциональную окраску голоса с помощью системы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фирмы AGI. Кроме того, нынешний прототип NEC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Dew способен спускать затвор тогда, когда эмоции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человека изменяются: например, командой к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фотографированию может послужить внезапный смех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0" name="Picture 7" descr="NEC Dew: цифровая камера послезавтрашнего дня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1-27T16:12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